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74E-E961-40E9-BC1A-BA1A8983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2A0-A10D-417B-932C-2AACE733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A0E-847D-4612-9AAA-BE281EC3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E1A-CA9A-420E-BFA5-2314BE07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BD61-792A-4BFA-9151-F269C9F6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8115-1496-40AB-91E4-F7939127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3C23-29F7-4031-A2FA-B0C63CD9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362-0A23-41D8-9DAC-CAC08321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F456-7242-4542-8025-46BDFF95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FF20-6874-48AD-8CEE-AD0725C0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B027-44A4-41FB-BBB2-B57B8D7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A40-8807-4B14-8A0E-50E6D3B2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F8DB-A3EE-469F-9990-DAAF8912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7842-8F4A-4A45-BC43-4AC9B8C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8B64-217B-45B3-9DD7-50C3ABD3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8D84-5231-4F37-985E-CF9C3D9F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5308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400" y="201276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512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5308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400" y="4518000"/>
            <a:ext cx="29692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F7E7-142F-4270-91EF-71966B06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93C-20FD-456C-9AA5-5B108404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269-3A42-4A47-9124-8F65C82F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4FC-4B37-47E1-8E11-7FA1AFFC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5120" y="402840"/>
            <a:ext cx="92217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5F4-006F-4795-924C-05D3ED7C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892-F2D2-49B2-B547-D2A4830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0480" y="451800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959-3034-4FE9-BBF0-A0B80F64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512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0480" y="2012760"/>
            <a:ext cx="4500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5120" y="4518000"/>
            <a:ext cx="92217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863-627E-4B27-AD41-1415A7EC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825D9-DCDD-4C7E-9FC0-7A1193618475}" type="datetime">
              <a:rPr b="0" lang="it-IT" sz="13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D6C57-3C14-49B8-96E3-DA0498AC1E03}" type="slidenum">
              <a:rPr b="0" lang="it-IT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5120" y="402840"/>
            <a:ext cx="92217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35120" y="2012760"/>
            <a:ext cx="92217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B41C1-CCC9-4C58-96FB-260F45EAFDE3}" type="datetime">
              <a:rPr b="0" lang="it-IT" sz="13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2106C-AFFA-4AFD-BE98-F58C9B5A3C5C}" type="slidenum">
              <a:rPr b="0" lang="it-IT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tangolo 2"/>
          <p:cNvSpPr/>
          <p:nvPr/>
        </p:nvSpPr>
        <p:spPr>
          <a:xfrm>
            <a:off x="2610000" y="1902600"/>
            <a:ext cx="520992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6600" spc="-1" strike="noStrike">
                <a:solidFill>
                  <a:srgbClr val="1abaed"/>
                </a:solidFill>
                <a:latin typeface="Calibri"/>
                <a:ea typeface="Arial"/>
              </a:rPr>
              <a:t>BLUE KE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ttangolo 3"/>
          <p:cNvSpPr/>
          <p:nvPr/>
        </p:nvSpPr>
        <p:spPr>
          <a:xfrm>
            <a:off x="954000" y="1730880"/>
            <a:ext cx="846612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7585a"/>
                </a:solidFill>
                <a:latin typeface="Calibri Light"/>
              </a:rPr>
              <a:t>FINAL CO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 Light"/>
              </a:rPr>
              <a:t>Inform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tangolo 3"/>
          <p:cNvSpPr/>
          <p:nvPr/>
        </p:nvSpPr>
        <p:spPr>
          <a:xfrm>
            <a:off x="1060560" y="4542480"/>
            <a:ext cx="85690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57585a"/>
                </a:solidFill>
                <a:latin typeface="Calibri Light"/>
              </a:rPr>
              <a:t>Ancona – </a:t>
            </a:r>
            <a:r>
              <a:rPr b="0" lang="en-GB" sz="1800" spc="-1" strike="noStrike">
                <a:solidFill>
                  <a:srgbClr val="57585a"/>
                </a:solidFill>
                <a:latin typeface="Calibri Light"/>
              </a:rPr>
              <a:t>Italy, 26</a:t>
            </a:r>
            <a:r>
              <a:rPr b="0" lang="en-GB" sz="1800" spc="-1" strike="noStrike" baseline="30000">
                <a:solidFill>
                  <a:srgbClr val="57585a"/>
                </a:solidFill>
                <a:latin typeface="Calibri Light"/>
              </a:rPr>
              <a:t>th</a:t>
            </a:r>
            <a:r>
              <a:rPr b="0" lang="en-GB" sz="1800" spc="-1" strike="noStrike">
                <a:solidFill>
                  <a:srgbClr val="57585a"/>
                </a:solidFill>
                <a:latin typeface="Calibri Light"/>
              </a:rPr>
              <a:t> September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7562880" y="7113600"/>
            <a:ext cx="250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100" spc="-1" strike="noStrike">
                <a:solidFill>
                  <a:srgbClr val="00b0f0"/>
                </a:solidFill>
                <a:latin typeface="Calibri"/>
              </a:rPr>
              <a:t>www.italy-croatia/web/blue-ke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FF261-9F0F-40A7-B6B9-A090244A718D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asellaDiTesto 6"/>
          <p:cNvSpPr/>
          <p:nvPr/>
        </p:nvSpPr>
        <p:spPr>
          <a:xfrm>
            <a:off x="382680" y="1292400"/>
            <a:ext cx="951840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ACTIVITI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Between plain and mountains: Gemona and Ven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In the very heart of Mitteleurope: Trie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 of the Centrale Idrodina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vidale del Friuli vis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ttangolo 2"/>
          <p:cNvSpPr/>
          <p:nvPr/>
        </p:nvSpPr>
        <p:spPr>
          <a:xfrm>
            <a:off x="598320" y="450000"/>
            <a:ext cx="94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Udin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34" name="Immagine 2" descr="Immagine che contiene montagna, cielo, natura, albero&#10;&#10;Descrizione generata automaticamente"/>
          <p:cNvPicPr/>
          <p:nvPr/>
        </p:nvPicPr>
        <p:blipFill>
          <a:blip r:embed="rId3"/>
          <a:stretch/>
        </p:blipFill>
        <p:spPr>
          <a:xfrm>
            <a:off x="382680" y="4060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35" name="Immagine 7" descr="Immagine che contiene esterni, cielo, edificio, ponte&#10;&#10;Descrizione generata automaticamente"/>
          <p:cNvPicPr/>
          <p:nvPr/>
        </p:nvPicPr>
        <p:blipFill>
          <a:blip r:embed="rId4"/>
          <a:stretch/>
        </p:blipFill>
        <p:spPr>
          <a:xfrm>
            <a:off x="6518160" y="4024440"/>
            <a:ext cx="2711520" cy="1812960"/>
          </a:xfrm>
          <a:prstGeom prst="rect">
            <a:avLst/>
          </a:prstGeom>
          <a:ln w="0">
            <a:noFill/>
          </a:ln>
        </p:spPr>
      </p:pic>
      <p:pic>
        <p:nvPicPr>
          <p:cNvPr id="136" name="Immagine 9" descr="Immagine che contiene pavimento, interni, edificio, tavolo&#10;&#10;Descrizione generata automaticamente"/>
          <p:cNvPicPr/>
          <p:nvPr/>
        </p:nvPicPr>
        <p:blipFill>
          <a:blip r:embed="rId5"/>
          <a:stretch/>
        </p:blipFill>
        <p:spPr>
          <a:xfrm>
            <a:off x="3324240" y="4037040"/>
            <a:ext cx="27795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BA70D-2437-49FD-9490-3B5A925DE253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CasellaDiTesto 6"/>
          <p:cNvSpPr/>
          <p:nvPr/>
        </p:nvSpPr>
        <p:spPr>
          <a:xfrm>
            <a:off x="458640" y="1166760"/>
            <a:ext cx="9518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ING SCHOOL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dustrial Craft School Sibe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IOD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7/03/2019-30/03/2019 (cla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8/04/2019-24/05/2019 (traineeship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OSTING SCHOOL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IS Brignoli-Einaudi-Marconi Gradisca (GO) -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 Luigi Einaudi Staranzano (GO), in cooperation with ENAIP FVG Pasian di Prato (U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OSTING COMPANIES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tecarlo Yachts Monfalcone (G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CCOMMODATION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 Figli del Popolo - Complesso Ricettivo “Semente Nova”, Trie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Staranzano (Goriz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3747960" y="645480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41" name="Immagine 2" descr="Immagine che contiene cielo, strada, esterni, gara di atletica&#10;&#10;Descrizione generata automaticamente"/>
          <p:cNvPicPr/>
          <p:nvPr/>
        </p:nvPicPr>
        <p:blipFill>
          <a:blip r:embed="rId3"/>
          <a:stretch/>
        </p:blipFill>
        <p:spPr>
          <a:xfrm>
            <a:off x="227160" y="485460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42" name="Immagine 4" descr="Immagine che contiene cielo, strada, esterni, edificio&#10;&#10;Descrizione generata automaticamente"/>
          <p:cNvPicPr/>
          <p:nvPr/>
        </p:nvPicPr>
        <p:blipFill>
          <a:blip r:embed="rId4"/>
          <a:stretch/>
        </p:blipFill>
        <p:spPr>
          <a:xfrm>
            <a:off x="3517920" y="4843440"/>
            <a:ext cx="2857320" cy="1611360"/>
          </a:xfrm>
          <a:prstGeom prst="rect">
            <a:avLst/>
          </a:prstGeom>
          <a:ln w="0">
            <a:noFill/>
          </a:ln>
        </p:spPr>
      </p:pic>
      <p:pic>
        <p:nvPicPr>
          <p:cNvPr id="143" name="Immagine 7" descr="Immagine che contiene esterni, cielo, edificio, edificio governativo&#10;&#10;Descrizione generata automaticamente"/>
          <p:cNvPicPr/>
          <p:nvPr/>
        </p:nvPicPr>
        <p:blipFill>
          <a:blip r:embed="rId5"/>
          <a:stretch/>
        </p:blipFill>
        <p:spPr>
          <a:xfrm>
            <a:off x="6865920" y="4853160"/>
            <a:ext cx="21780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E3BA8-24EF-4131-8B42-9FA86F558503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asellaDiTesto 6"/>
          <p:cNvSpPr/>
          <p:nvPr/>
        </p:nvSpPr>
        <p:spPr>
          <a:xfrm>
            <a:off x="382680" y="1292400"/>
            <a:ext cx="9518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Student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uka Labor, Dario Baranovic, Lucijan Sp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accompanying teache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onora Rupic, Jozo Pu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school tuto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iovanni Rieppi, Laura Pahor, Mauro Gardenal, Barbara Dainelli (ENAIP FVG)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est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alter Goru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animede Viagg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ntonio Paradi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Staranzano (Gorizia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4A26A-7C12-4D06-A4C3-5E57974CD16A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asellaDiTesto 6"/>
          <p:cNvSpPr/>
          <p:nvPr/>
        </p:nvSpPr>
        <p:spPr>
          <a:xfrm>
            <a:off x="382680" y="1292400"/>
            <a:ext cx="951840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S OF ACTIVITIES CARRIED OUT IN THE SCHOO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ree-phase asynchronous mo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al aspects and  working princi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and electric fie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que in electric mot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XAMPLES OF ACTIVITIES CARRIED OUT BY THE TRAINEES IN THE COMPA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working in the Compan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and cabling of electrical and electronics components on board sh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Staranzano (Gorizia)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36A96-04CB-4938-9694-5A53170833E7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asellaDiTesto 6"/>
          <p:cNvSpPr/>
          <p:nvPr/>
        </p:nvSpPr>
        <p:spPr>
          <a:xfrm>
            <a:off x="382680" y="1292400"/>
            <a:ext cx="951840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ACTIVITI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In the very heart of Mitteleurope: Trie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 to the Centrale Idrodina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ip to Ve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 to MUCA - Museo della cantieristica Monfalc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ttangolo 2"/>
          <p:cNvSpPr/>
          <p:nvPr/>
        </p:nvSpPr>
        <p:spPr>
          <a:xfrm>
            <a:off x="598320" y="450000"/>
            <a:ext cx="94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Staranzano (Goriz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56" name="Immagine 2" descr="Immagine che contiene montagna, esterni, barca, acqua&#10;&#10;Descrizione generata automaticamente"/>
          <p:cNvPicPr/>
          <p:nvPr/>
        </p:nvPicPr>
        <p:blipFill>
          <a:blip r:embed="rId3"/>
          <a:stretch/>
        </p:blipFill>
        <p:spPr>
          <a:xfrm>
            <a:off x="382680" y="4156200"/>
            <a:ext cx="2943000" cy="1654200"/>
          </a:xfrm>
          <a:prstGeom prst="rect">
            <a:avLst/>
          </a:prstGeom>
          <a:ln w="0">
            <a:noFill/>
          </a:ln>
        </p:spPr>
      </p:pic>
      <p:pic>
        <p:nvPicPr>
          <p:cNvPr id="157" name="Immagine 4" descr="Immagine che contiene edificio, interni, tavolo, pavimento&#10;&#10;Descrizione generata automaticamente"/>
          <p:cNvPicPr/>
          <p:nvPr/>
        </p:nvPicPr>
        <p:blipFill>
          <a:blip r:embed="rId4"/>
          <a:stretch/>
        </p:blipFill>
        <p:spPr>
          <a:xfrm>
            <a:off x="3666960" y="4149720"/>
            <a:ext cx="2217960" cy="1660680"/>
          </a:xfrm>
          <a:prstGeom prst="rect">
            <a:avLst/>
          </a:prstGeom>
          <a:ln w="0">
            <a:noFill/>
          </a:ln>
        </p:spPr>
      </p:pic>
      <p:pic>
        <p:nvPicPr>
          <p:cNvPr id="158" name="Immagine 7" descr="Immagine che contiene cielo, esterni, edificio, strada&#10;&#10;Descrizione generata automaticamente"/>
          <p:cNvPicPr/>
          <p:nvPr/>
        </p:nvPicPr>
        <p:blipFill>
          <a:blip r:embed="rId5"/>
          <a:stretch/>
        </p:blipFill>
        <p:spPr>
          <a:xfrm>
            <a:off x="6365880" y="4162320"/>
            <a:ext cx="2771640" cy="1648080"/>
          </a:xfrm>
          <a:prstGeom prst="rect">
            <a:avLst/>
          </a:prstGeom>
          <a:ln w="0">
            <a:noFill/>
          </a:ln>
        </p:spPr>
      </p:pic>
      <p:pic>
        <p:nvPicPr>
          <p:cNvPr id="159" name="Immagine 9" descr="Immagine che contiene interni, pavimento, edificio, parete&#10;&#10;Descrizione generata automaticamente"/>
          <p:cNvPicPr/>
          <p:nvPr/>
        </p:nvPicPr>
        <p:blipFill>
          <a:blip r:embed="rId6"/>
          <a:stretch/>
        </p:blipFill>
        <p:spPr>
          <a:xfrm>
            <a:off x="7155000" y="1531800"/>
            <a:ext cx="299700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FED89-1DD1-4800-8A79-539A693DDA7F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tangolo 2"/>
          <p:cNvSpPr/>
          <p:nvPr/>
        </p:nvSpPr>
        <p:spPr>
          <a:xfrm>
            <a:off x="615960" y="925200"/>
            <a:ext cx="946008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STUDENT MOBILITY ACTIV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Incoming groups to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ieste, Udine, Staranzano (Goriz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89" name="Immagine 2" descr="Immagine che contiene montagna, esterni, barca, acqua&#10;&#10;Descrizione generata automaticamente"/>
          <p:cNvPicPr/>
          <p:nvPr/>
        </p:nvPicPr>
        <p:blipFill>
          <a:blip r:embed="rId3"/>
          <a:stretch/>
        </p:blipFill>
        <p:spPr>
          <a:xfrm>
            <a:off x="525600" y="4146480"/>
            <a:ext cx="2512800" cy="141300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4" descr="Immagine che contiene edificio, cielo, esterni, orologio&#10;&#10;Descrizione generata automaticamente"/>
          <p:cNvPicPr/>
          <p:nvPr/>
        </p:nvPicPr>
        <p:blipFill>
          <a:blip r:embed="rId4"/>
          <a:stretch/>
        </p:blipFill>
        <p:spPr>
          <a:xfrm>
            <a:off x="3673440" y="4145040"/>
            <a:ext cx="2819520" cy="1409760"/>
          </a:xfrm>
          <a:prstGeom prst="rect">
            <a:avLst/>
          </a:prstGeom>
          <a:ln w="0">
            <a:noFill/>
          </a:ln>
        </p:spPr>
      </p:pic>
      <p:pic>
        <p:nvPicPr>
          <p:cNvPr id="91" name="Immagine 6" descr="Immagine che contiene terra, esterni, edificio, cielo&#10;&#10;Descrizione generata automaticamente"/>
          <p:cNvPicPr/>
          <p:nvPr/>
        </p:nvPicPr>
        <p:blipFill>
          <a:blip r:embed="rId5"/>
          <a:stretch/>
        </p:blipFill>
        <p:spPr>
          <a:xfrm>
            <a:off x="7018200" y="4145040"/>
            <a:ext cx="21193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4EB14-F8C6-473E-A469-A8AE548589BE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328680" y="1300320"/>
            <a:ext cx="951876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NDING SCHOOL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ffic Technical School Sibeni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IOD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7/03/2019-30/03/2019 (clas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8/04/2019-24/05/2019 (traineeshi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OSTING SCHOOL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stituto Nautico Tomaso di Savoia Duca di Genova – Luigi Galvani Trie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OSTING COMPANIES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cean srl Trie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CCOMMODATION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pera Figli del Popolo - Complesso Ricettivo “Semente Nova”, Trie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Trie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3747960" y="645480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4" descr="Immagine che contiene albero, esterni, edificio, cielo&#10;&#10;Descrizione generata automaticamente"/>
          <p:cNvPicPr/>
          <p:nvPr/>
        </p:nvPicPr>
        <p:blipFill>
          <a:blip r:embed="rId3"/>
          <a:stretch/>
        </p:blipFill>
        <p:spPr>
          <a:xfrm>
            <a:off x="154080" y="4143240"/>
            <a:ext cx="2855880" cy="1862280"/>
          </a:xfrm>
          <a:prstGeom prst="rect">
            <a:avLst/>
          </a:prstGeom>
          <a:ln w="0">
            <a:noFill/>
          </a:ln>
        </p:spPr>
      </p:pic>
      <p:pic>
        <p:nvPicPr>
          <p:cNvPr id="97" name="Immagine 7" descr="Immagine che contiene barca, acqua, cielo, esterni&#10;&#10;Descrizione generata automaticamente"/>
          <p:cNvPicPr/>
          <p:nvPr/>
        </p:nvPicPr>
        <p:blipFill>
          <a:blip r:embed="rId4"/>
          <a:stretch/>
        </p:blipFill>
        <p:spPr>
          <a:xfrm>
            <a:off x="3807000" y="4748040"/>
            <a:ext cx="1950840" cy="124632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9" descr="Immagine che contiene esterni, cielo, edificio, edificio governativo&#10;&#10;Descrizione generata automaticamente"/>
          <p:cNvPicPr/>
          <p:nvPr/>
        </p:nvPicPr>
        <p:blipFill>
          <a:blip r:embed="rId5"/>
          <a:stretch/>
        </p:blipFill>
        <p:spPr>
          <a:xfrm>
            <a:off x="6554880" y="4094280"/>
            <a:ext cx="25826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EC319-2547-4674-871A-01D4F67D8094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sellaDiTesto 6"/>
          <p:cNvSpPr/>
          <p:nvPr/>
        </p:nvSpPr>
        <p:spPr>
          <a:xfrm>
            <a:off x="382680" y="1292400"/>
            <a:ext cx="9518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Student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akov Bezic, Bruno Ivicin, Josip Rad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accompanying teache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vona Ivicin, Natasa Gaspe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talian school tuto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ugenia Forleo, Umberto Santo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est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alter Goru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animede Viagg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ntonio Paradi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Trie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F6B68-1081-4CE6-923E-0A7122D2CB93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sellaDiTesto 6"/>
          <p:cNvSpPr/>
          <p:nvPr/>
        </p:nvSpPr>
        <p:spPr>
          <a:xfrm>
            <a:off x="382680" y="1292400"/>
            <a:ext cx="95184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S OF ACTIVITIES CARRIED OUT IN THE SCHOO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ience of navig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ucture and construction of the maritime means of trans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ip on school vessel: coastal navigation and electronic instrumentation on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ritime Engl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XAMPLES OF ACTIVITIES CARRIED OUT BY THE TRAINEES IN THE COMPA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ork on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Triest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C0E4B-68B1-4514-827E-3729458403D2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asellaDiTesto 6"/>
          <p:cNvSpPr/>
          <p:nvPr/>
        </p:nvSpPr>
        <p:spPr>
          <a:xfrm>
            <a:off x="382680" y="1292400"/>
            <a:ext cx="951840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LTURAL ACTIVITIE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In the very heart of Mitteleurope: Trie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ur: To the origins of mankind: Aquileia and G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 of the Centrale Idrodinam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ip to Ve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 Giusto and Molo Audace vis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ttangolo 2"/>
          <p:cNvSpPr/>
          <p:nvPr/>
        </p:nvSpPr>
        <p:spPr>
          <a:xfrm>
            <a:off x="598320" y="450000"/>
            <a:ext cx="94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Tries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11" name="Immagine 2" descr="Immagine che contiene edificio, esterni, acqua, barca&#10;&#10;Descrizione generata automaticamente"/>
          <p:cNvPicPr/>
          <p:nvPr/>
        </p:nvPicPr>
        <p:blipFill>
          <a:blip r:embed="rId3"/>
          <a:stretch/>
        </p:blipFill>
        <p:spPr>
          <a:xfrm>
            <a:off x="258840" y="4405320"/>
            <a:ext cx="2952720" cy="1542960"/>
          </a:xfrm>
          <a:prstGeom prst="rect">
            <a:avLst/>
          </a:prstGeom>
          <a:ln w="0">
            <a:noFill/>
          </a:ln>
        </p:spPr>
      </p:pic>
      <p:pic>
        <p:nvPicPr>
          <p:cNvPr id="112" name="Immagine 4" descr="Immagine che contiene edificio, cielo, strada, esterni&#10;&#10;Descrizione generata automaticamente"/>
          <p:cNvPicPr/>
          <p:nvPr/>
        </p:nvPicPr>
        <p:blipFill>
          <a:blip r:embed="rId4"/>
          <a:stretch/>
        </p:blipFill>
        <p:spPr>
          <a:xfrm>
            <a:off x="3747960" y="4405320"/>
            <a:ext cx="2314800" cy="1542960"/>
          </a:xfrm>
          <a:prstGeom prst="rect">
            <a:avLst/>
          </a:prstGeom>
          <a:ln w="0">
            <a:noFill/>
          </a:ln>
        </p:spPr>
      </p:pic>
      <p:pic>
        <p:nvPicPr>
          <p:cNvPr id="113" name="Immagine 7" descr="Immagine che contiene edificio, barca, acqua, esterni&#10;&#10;Descrizione generata automaticamente"/>
          <p:cNvPicPr/>
          <p:nvPr/>
        </p:nvPicPr>
        <p:blipFill>
          <a:blip r:embed="rId5"/>
          <a:stretch/>
        </p:blipFill>
        <p:spPr>
          <a:xfrm>
            <a:off x="6686640" y="4359240"/>
            <a:ext cx="2770200" cy="1550880"/>
          </a:xfrm>
          <a:prstGeom prst="rect">
            <a:avLst/>
          </a:prstGeom>
          <a:ln w="0">
            <a:noFill/>
          </a:ln>
        </p:spPr>
      </p:pic>
      <p:pic>
        <p:nvPicPr>
          <p:cNvPr id="114" name="Immagine 9" descr="Immagine che contiene edificio, albero, esterni, erba&#10;&#10;Descrizione generata automaticamente"/>
          <p:cNvPicPr/>
          <p:nvPr/>
        </p:nvPicPr>
        <p:blipFill>
          <a:blip r:embed="rId6"/>
          <a:stretch/>
        </p:blipFill>
        <p:spPr>
          <a:xfrm>
            <a:off x="7121520" y="2233440"/>
            <a:ext cx="29732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D42DC-81D4-448D-8886-6067549666D4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asellaDiTesto 6"/>
          <p:cNvSpPr/>
          <p:nvPr/>
        </p:nvSpPr>
        <p:spPr>
          <a:xfrm>
            <a:off x="328680" y="1300320"/>
            <a:ext cx="951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ING SCHOOL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hnical School Pu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IOD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1/03/2019 - 14/04/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OSTING SCHOOL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ituto Statale di Istruzione Superiore Arturo Malignani U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OSTING COMPANIES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eainox srl Reana del Rojale (Ud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CCOMMODATION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ucandato statale Collegio Uccellis Ud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U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3747960" y="6454800"/>
            <a:ext cx="5389560" cy="896760"/>
          </a:xfrm>
          <a:prstGeom prst="rect">
            <a:avLst/>
          </a:prstGeom>
          <a:ln w="0">
            <a:noFill/>
          </a:ln>
        </p:spPr>
      </p:pic>
      <p:pic>
        <p:nvPicPr>
          <p:cNvPr id="119" name="Immagine 2" descr=""/>
          <p:cNvPicPr/>
          <p:nvPr/>
        </p:nvPicPr>
        <p:blipFill>
          <a:blip r:embed="rId3"/>
          <a:stretch/>
        </p:blipFill>
        <p:spPr>
          <a:xfrm>
            <a:off x="328680" y="426564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Immagine 4" descr="Immagine che contiene elettronico&#10;&#10;Descrizione generata automaticamente"/>
          <p:cNvPicPr/>
          <p:nvPr/>
        </p:nvPicPr>
        <p:blipFill>
          <a:blip r:embed="rId4"/>
          <a:stretch/>
        </p:blipFill>
        <p:spPr>
          <a:xfrm>
            <a:off x="3747960" y="4265640"/>
            <a:ext cx="1576440" cy="1574640"/>
          </a:xfrm>
          <a:prstGeom prst="rect">
            <a:avLst/>
          </a:prstGeom>
          <a:ln w="0">
            <a:noFill/>
          </a:ln>
        </p:spPr>
      </p:pic>
      <p:pic>
        <p:nvPicPr>
          <p:cNvPr id="121" name="Immagine 7" descr="Immagine che contiene edificio, erba, esterni, casa&#10;&#10;Descrizione generata automaticamente"/>
          <p:cNvPicPr/>
          <p:nvPr/>
        </p:nvPicPr>
        <p:blipFill>
          <a:blip r:embed="rId5"/>
          <a:stretch/>
        </p:blipFill>
        <p:spPr>
          <a:xfrm>
            <a:off x="5789520" y="4265640"/>
            <a:ext cx="38196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35C7D-6F71-4B12-82E1-E4AE150EED48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asellaDiTesto 6"/>
          <p:cNvSpPr/>
          <p:nvPr/>
        </p:nvSpPr>
        <p:spPr>
          <a:xfrm>
            <a:off x="382680" y="1292400"/>
            <a:ext cx="9518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Student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lip Licul, Karlo Ritosa, Antonio Pl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roatian accompanying teachers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Gordana Mofardin, Iva Popovic, Vanda Brandic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talian school tutors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usto Senatore, Mauro Fasa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est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alter Goru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animede Viagg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ntonio Paradi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U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egnaposto numero diapositiva 4"/>
          <p:cNvSpPr/>
          <p:nvPr/>
        </p:nvSpPr>
        <p:spPr>
          <a:xfrm>
            <a:off x="9801360" y="6959520"/>
            <a:ext cx="350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E01A8-861C-4B4E-86E0-28922B98E039}" type="slidenum">
              <a:rPr b="0" lang="it-IT" sz="13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asellaDiTesto 6"/>
          <p:cNvSpPr/>
          <p:nvPr/>
        </p:nvSpPr>
        <p:spPr>
          <a:xfrm>
            <a:off x="382680" y="1292400"/>
            <a:ext cx="951840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S OF ACTIVITIES CARRIED OUT IN THE SCHOO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ydraulic system and flu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sure generation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tribution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XAMPLES OF ACTIVITIES CARRIED OUT BY THE TRAINEES IN THE COMPA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cessing and transformation of met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dering techniq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al 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curity rules in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ttangolo 2"/>
          <p:cNvSpPr/>
          <p:nvPr/>
        </p:nvSpPr>
        <p:spPr>
          <a:xfrm>
            <a:off x="598320" y="443880"/>
            <a:ext cx="94600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abaed"/>
                </a:solidFill>
                <a:latin typeface="Arial"/>
                <a:ea typeface="Arial"/>
              </a:rPr>
              <a:t>Mobility activities in Udine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3747960" y="6446880"/>
            <a:ext cx="53895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16:39:05Z</dcterms:created>
  <dc:creator>Roberto Ciocca</dc:creator>
  <dc:description/>
  <dc:language>en-US</dc:language>
  <cp:lastModifiedBy>Microsoft Office User</cp:lastModifiedBy>
  <cp:lastPrinted>2019-08-29T14:20:31Z</cp:lastPrinted>
  <dcterms:modified xsi:type="dcterms:W3CDTF">2019-09-18T13:28:15Z</dcterms:modified>
  <cp:revision>235</cp:revision>
  <dc:subject/>
  <dc:title>Presentazione standard di PowerPoint</dc:title>
</cp:coreProperties>
</file>